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19A-8151-44F0-AC3F-2F4FABDB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3E4-3977-4F00-A4C7-48CC171A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7F7692-623C-4BEB-A3CA-727088FB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497DC-D0BC-45A7-8050-5479149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1EA46-1B26-492C-93CF-83EBDF7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37EAA4-3E40-4D7B-93F7-FAE80E3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F153BB-495A-479F-91E4-8D802062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BC15F7-0777-4064-A8B0-5E0419D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7FDBB-8FCE-48C5-8A0A-696DC71F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E806A-D5E6-4594-B914-7E7487CB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E2C5F5-A0FB-479E-9AA6-143C10FA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0713C-38AB-4CBC-935C-189AFE3E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DB6-65F8-49CA-9E02-7C03B298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48063-8E7A-44D1-BD0E-FC861136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DA29C-EE3B-477C-8F01-34BB8C24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3451D-F29A-44AA-8444-D6E6C36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FA384-EF67-40C1-BB73-71567D80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F4DE5-75E1-4DB5-B2A9-5FDB9B7B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505E6-3B74-4B02-A485-69C4095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7C04B-C7C7-41FE-9852-7F8B2AF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02B5-9666-4697-813F-AAC15CF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6D0E8-6462-4B70-8498-0C0C806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E6253-3561-4F99-ACC7-15A16891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A5D-6700-4CB8-BF1B-93618D37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6623E-453F-4F60-B016-393CE057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A8FDE-FC8B-4BC1-9A19-2A4574F5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1E4B0-149F-42BE-B671-4B151BB2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7220C-5080-4CD0-BDDD-77BAF329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1D95A-5CD4-40F7-BC93-228EABF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E4CA0-3735-42CE-8897-DE6EBD50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16DF7-F507-4BFC-82F7-F8F38E27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610F6-F75D-418A-8114-E01A06E1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BA93C-457B-47CE-B299-AB7E3BB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3B60E-B416-4973-A2D9-2C9F4534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1B1A-DC42-4699-B651-076863C0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DFC2F-359C-423A-BAAA-F9433DC0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D4A8-872F-4253-B55E-40B3F284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8BFA2-F693-4E55-9331-739C5502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90DD0-1E1D-41BC-8AE4-0A95A9EB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50BAD-43F4-4CE0-9527-ABC24165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82980-4273-43C8-BBD4-DA3AAE20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C5E9-0D8B-4923-8676-FFBA6E0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17289-BFB7-454A-8B34-D4C5A125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AA147-1CB4-4484-919F-C7BFF9D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BA3F4-A652-4DC5-B9B9-C8F908E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BBA-877E-4546-AAA4-80E4706E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AFDEF-AE13-466C-A2F7-47C740FD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31388-264B-472C-B966-F6C1A82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D54E7-57E2-4F3B-A593-C88400B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C476A-B7C7-463F-BD7E-B9B659F7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B4B52-D494-40C4-96CD-F78E43A8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C19C9-C08D-44BB-9161-5ECD06B9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D7610-CD1A-4871-8F99-DB1AC886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0A924-92F0-4458-9A86-0A23A860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B6391-71C3-4F73-BD65-385604B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AB7B1-BA08-4509-93D5-3D770E4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47C-DC96-492F-9557-780E1489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E9C58-2489-47FB-A7BE-35B9E624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0DD4C-32E5-4EAC-AFE2-9265C47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95332-7139-42B1-AE41-53C255C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3EF4C-B57F-41EC-B6F1-D121CCBE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3A5A8-FD3C-4026-9616-88564A47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36C05-DE34-46F0-A0D5-D98EB27D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5DE65-E66E-4C5C-9A0D-B31ACEED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558B5-4CA6-4D91-9167-20538A86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645C0-F0D4-4400-9C24-0D7CAA83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8C70F-E9B2-4BBA-9998-7802815D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9A5-C609-4C89-A443-870D1BF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835D3-5061-4495-94F4-D9F7DD7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EDFFA-20B8-4675-9ACD-9E235EA7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BF201-5D3B-4938-899E-13EFC33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0CF09-B4BD-4673-860F-4FF613F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93BE3-61D9-41FA-BCB8-5459453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CF5FB-B932-4381-9580-82AA26A8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CD85A-9F37-438E-B46D-8D672FA1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FC206-02C0-4248-8BBA-1F245A66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C43FB-8EC4-4C63-B197-610E7636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BFCCE-7976-49A9-8649-6D96968A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0CA-42A1-486C-B182-17D2FBCD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4B688-1E5D-4FCD-A051-76A469BA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32E8D-B62F-4C2B-84D3-069D43C0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3AA01-0B97-41C0-AE4E-8903E5A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6A74A-7176-4D97-9EA4-EF4FBD0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E59E9-A02D-4A27-937C-383DCA15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667DA-6E93-4067-8F80-56FA1E6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8F6F5-5831-4248-B44A-962A710C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76AF0-7D2D-49FE-B00E-4C07AA6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09BFC-C883-495E-9BFF-CC84F473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210DC-D1F3-4CA9-A3E9-C097D241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EB71-7C5B-46A6-8328-FF4DDC61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6EC95-D671-4511-9893-3EAD9B89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BBED6E-170C-46A5-8F76-AF113140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B25AC-7C86-4576-BB5F-2AFBFA38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E9D7D-78D1-4BB2-A67A-BE6C54AE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74317-56ED-41B8-AD6B-EDF7F616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52945-C64F-4DF1-8BA7-58017CD2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26744-7295-4BA0-811E-D6278E5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A994B-AF11-4431-9D9A-D0A3D73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CD513-FBD4-4EE6-A35B-8474BFBA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E30FA-22DD-49FA-A707-9016B72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8102-EC39-4FCF-A150-969C54D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F6E93-97AD-4D4A-A0C9-A882EA57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85BB0-5742-4350-8392-071428EE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162A0-20BB-493B-A580-D99017AB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02B83-ED01-44BC-BA31-BF52202F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2F3AE-76BD-4411-997D-77F0FBA9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76582-630C-4CA3-9F61-2234C09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A92A2-98EC-45B6-8373-8AFDC61A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139B8-B878-4BDE-9D7B-58F953F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1649A-5DFE-438C-AF13-72F824C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8297E-7389-4EA8-B40A-6A0C1B8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99D-9EC9-4538-8C3B-6DAEE1EF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7850-ED1D-48B2-9C50-6F82ED1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FD904B-A3B3-4318-8246-F4A00F3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64B48-5F99-4257-9BBD-D63F3D1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0D1A9-9160-45A8-B102-13B08722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58ECE-96D1-45AE-8C68-65551F06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53982-735B-49A4-8400-48634913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F70A4-3404-4EEA-9F59-3538A767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B0F93-250D-4101-B253-0AFEB1C8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A679D-2A1B-4E5F-8C7F-B4DC976F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9EDE7-4FF8-4DBB-9A15-281D3895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998E6-7297-4112-BB9F-35486037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E142-CC41-4212-9946-0C62253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51EF6-37A4-44CD-A368-0ADB5139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1B429-06F9-4ACF-86AA-DCCC9F15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BA677-FE81-4D1F-93DF-37B38D9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8A0C5-F049-4E0B-A1E3-8FFCEC43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3B659-9D87-4450-8629-A62C73BF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FB5713-BA95-4C64-ADF2-2871BC48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EB2952-8CDF-40F4-927E-4CAF0087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320F4-860A-40D0-B10C-FC28734D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19082-C83C-460D-BF95-FE284506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32A3D6-3FC2-4CA4-A651-910EC162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4D4F-8605-4281-AC1B-5838D1FA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04B651-9618-421D-B870-E9A2081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707E0-E4BB-44B5-93F0-0928E12A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E10B4-6AD1-400F-9C6C-67BF7D4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D4ACC-3FB5-49A7-A6F0-A0FC64B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87FC9-E32F-4BF8-AB39-6C9A42DD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15B2B-B6F1-4878-80E3-90562C8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745B3-49EB-4B97-AB17-8C0B5F43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58D93-D0A1-41A0-A8DE-7B7DA415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C0172-D31D-4550-9457-EBA21DEA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4276E-D5DA-4073-88D9-CD0EF0EC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D124-5D7F-4DCA-BB75-E4677482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3BBAA-14E8-4AE9-AF3B-8D4EAC31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AE607-21A1-4455-9A81-923119CF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4C330-FF46-45AB-BFD2-46DFFF6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CCD3B-ADEB-4AB3-A914-943D7D98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777AF-8E67-4203-809E-7F18D219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D5945-25F6-473D-AAAB-265E9E6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652C5-015C-4A41-8860-1019E97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E12FA-50F1-43C1-A003-919C5A7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75030-4800-4A4D-B27A-8ED01E34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ACE51-C3A4-43A0-A47B-35C469D0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A26-B3ED-4E0D-A55C-FEE97C79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AB510-7294-4A28-BF2F-33B304FA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A0C9-EE5D-4395-987E-0E992D3D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093B-2334-46F4-BFFE-5F07A6E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FA95-AE96-44F7-87C9-C7000A8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0306-D315-44BE-8853-B86539A2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961C-E92D-4F94-A22C-72E4634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FFE-70EF-4828-B9E7-A235A6C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796F-6F4B-4D75-9873-DCE184A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C5FB-010F-4169-B25E-2255C6D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D627-13FB-4595-A876-A08CCFD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99F4-B358-4E51-8A33-DE8FECE0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1880-150A-472E-AB54-BE35692B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3213-CACF-4625-A41E-7C7D33D1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BDF3-1680-491D-A925-A4F24B50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676C-0731-4ECE-A4C1-993562C8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9F91-C694-4E23-9B23-30EC63E9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62BB-86C0-4A88-B2F4-FEF6D17E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95F-FD44-48A0-B703-48EBBBB9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C65F-F0B6-4A18-9353-4C1329B5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FB1B-97F2-448F-8002-C185B64D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FA01-D429-4835-8ED1-844F6B08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A66A-B8B9-43ED-861A-60449F3A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A0A7C-B0C3-459A-8BA1-67FB5B9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2E45-1F51-4FBC-8978-1E35836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8B5C-AC16-48D5-8C9A-01436BB1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CCCF-D6CD-4971-92C3-15D20FE5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4FFB-7B3C-46C1-9760-3038E613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1BAB8-19ED-48D5-8E1F-7B5F5C1E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8B2-76A9-4684-B245-FD070A2B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48175-5F46-4EF3-B666-9B6BF9E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5D7AA-8D87-40D9-83F8-5A9434F2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E045C-0C6B-4478-AE2E-60449B25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0AC1C-79D0-41F6-B4AF-85213E01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6D425-D0C0-4892-BEA3-954B3AF4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F54F7-3445-4EE2-9D93-73EAB788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0D055-9598-4CF0-9704-1F74037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B377D-D8C3-4585-B553-7A164F7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0064C-D622-4D58-82BE-883B07B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23426-4E55-45E9-AA96-9A627B75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0B2-EB43-46FA-BB7F-ED2FB41C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9337E-CC63-43BC-93B1-1908981A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05BCA-8B60-4E07-AF51-C0143480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806F5-27FB-43ED-823F-37C769E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10C7-11E2-4112-9310-FD55F98E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AF04D-A43D-4068-826D-69104E5A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D486-EE10-49C3-A5DC-0234F4B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4A4D-875A-4EFE-BC49-107D29D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AE20-6D7E-422C-9FF6-29DE1A3C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D039C-5392-412B-9BBA-4CB6978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D9B95-B076-4A24-93F8-4AB871D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B0F-BD5F-4A31-A280-FD1D5F5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11C8-9698-4028-9BD4-E3BAAB4C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6C0D6-2477-4811-9064-451A658B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149B1-E7F0-4B95-A0BA-B13F69C4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EC6C99-6D56-45AD-9BB3-E43F3E14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B0DB6-82F2-4194-9B3F-224EE897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CE94A-6958-409E-99FD-4F4A862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3C6CD1-2C1C-48AF-BF2A-6FE27AB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0839B6-DE38-42C5-87C9-A6E1110F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FBDA39-31DB-49DF-BA9C-50DCFC9B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2954CB-CB66-44B2-9BBC-E023961E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981-4050-4E09-9609-F72901C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98790B-32D2-439B-BA3C-5582D64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7341E2-272B-40E0-93CB-1EAF020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E001D-15C0-465F-B9E7-D892E1B9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83AFB-809E-4231-992B-785DE758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F482EB-C72C-454D-AA6E-23C937B1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D3128-A905-4E55-A450-C64EE854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4D03F-AF67-49E5-9254-163ECC17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BF1618-8A3A-4A4B-9CBF-02EDF939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97AF4-A21B-4E37-B5C7-06E00C62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2C697-7CD3-43C0-A302-C356036B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2BD-12D2-416F-A829-32015327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D345B3-E655-4E35-87E9-21ABBBC2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F82270-EEAC-485A-90BF-3EA151B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2F7E31-6CD3-4B22-9C7A-D625B034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4BA497-1E65-4235-A05E-39065DDC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E8FA8-E9FE-4526-BE9C-CE3B2E23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F80D7-6004-4CFE-8A8C-00838402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FE2E3-B9F4-4537-8E61-11D18338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0110C-A2EB-4138-A1B8-E5B34A8C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7D4768-473F-47A0-8C75-D40003A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74226-08A9-4B06-9955-C3785B12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E21-28A3-48EE-AFBE-CFEE18563E8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4A5-C71D-45CF-BC0E-50870E5D8BE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028F-62B4-440A-8EDD-0C52E09946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58F0-D295-43B9-B602-2CE7F811760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8EA-5E0D-4F1A-8BD7-1D953597002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426-FF2C-49C6-AB13-D38D8D6E1BA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E83-AA40-4B9F-9BB1-3526A9109C5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B6F5-A0D9-49A4-A050-5BFE494C159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D625-AA00-4346-91F1-C2CB6A842CD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AC12-3B73-4E24-B7C4-926DA88E5FA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B85D-7D28-408B-B8C5-19D4FAAC16E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6CD-CF5A-4C1B-B85A-2AC32537714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51D-60B3-4A08-846D-665DF72426C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B79B-9986-49F7-A3FC-8424678CDD8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9613-2764-4D66-9FD0-70D71D427D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498E-0EB2-4A77-947E-14ABFD396CA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F92-24D1-453D-A30F-91D912FD95B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44DC-CB06-49CB-B914-0E383F1C788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2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B67-DCBD-4D03-B4A6-B9FAE4C7DA6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F851-D9E0-415E-8F8F-A90314C3D76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arah Monro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was born July 30, 1863,and died on April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1947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duc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attended a small one room school Until I Was 15 in Dearborn, Michigan For 8 years. I was not very fond of school and was a poor studen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greatest accomplishment, or what I was mostly known for is creating The Mass production assembly li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other important accomplishment was I Made the model T car. Also known as the Tin Lizzi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third important accomplishment was creating the ford motor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 A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am Henry Fo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3" descr="Henry Ford.jpg"/>
          <p:cNvPicPr/>
          <p:nvPr/>
        </p:nvPicPr>
        <p:blipFill>
          <a:blip r:embed="rId1"/>
          <a:stretch/>
        </p:blipFill>
        <p:spPr>
          <a:xfrm>
            <a:off x="609480" y="2590920"/>
            <a:ext cx="3048120" cy="39081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4" descr="Henry Ford And The Model T.bmp"/>
          <p:cNvPicPr/>
          <p:nvPr/>
        </p:nvPicPr>
        <p:blipFill>
          <a:blip r:embed="rId2"/>
          <a:stretch/>
        </p:blipFill>
        <p:spPr>
          <a:xfrm>
            <a:off x="3772080" y="1523880"/>
            <a:ext cx="5371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6T18:08:43Z</dcterms:modified>
  <cp:revision>13</cp:revision>
  <dc:subject/>
  <dc:title>Who Am I?</dc:title>
</cp:coreProperties>
</file>